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4E8-F10A-43D0-B248-51965F07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E2C-DA80-475B-B988-B99D640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241-03B6-4D3C-9B9E-F4BCDC7B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5D2-65E1-443D-AE79-7F36BCB8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44F-4077-43E7-9580-765A6241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D5C-315F-4A0E-B268-7D561A6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3B9-0D4F-4048-A960-A478FBC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07B-625A-4576-BCDF-B853740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A59-33EA-4A27-B8A4-B8BEAE3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689-15FA-464E-96B8-B8A8D17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9B4-F8F3-43EE-B446-7594B6C3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62B-45B1-4332-B61B-4D0193A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9DB-C874-4069-BF0E-423345DF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971800" cy="129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524400" cy="1006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4038480" cy="909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943600" y="3809880"/>
            <a:ext cx="200016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3:16:12Z</dcterms:created>
  <dc:creator> </dc:creator>
  <dc:description/>
  <dc:language>en-US</dc:language>
  <cp:lastModifiedBy> </cp:lastModifiedBy>
  <dcterms:modified xsi:type="dcterms:W3CDTF">2012-06-18T03:20:31Z</dcterms:modified>
  <cp:revision>2</cp:revision>
  <dc:subject/>
  <dc:title>PowerPoint Presentation</dc:title>
</cp:coreProperties>
</file>